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F2C5-4449-48B3-ADAA-CB501AF2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AF07-5042-42D8-80F7-3E15569F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5D9-2E0D-47DA-B451-159FDC25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0C10-8544-46D4-8D2B-FB5A2E7FE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573A-AAEB-4EF3-A547-AD31F1DE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21FA-6BD6-40A9-84FB-58B61199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190-C6C9-4AF2-98E1-A95BD09D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B279-F973-4D51-9BBB-A2F32674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D6F8-A993-4018-9788-4ECAAE9C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3AC-93BB-4FDF-B908-4B42D8BB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67A-314D-4D4D-8E3F-1235382B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6DD-5E5D-4AE8-BD46-A879B318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FDD19-6ACD-4E6B-B627-0F63C63E6AB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ser.edi.fmph.uniba.sk/tomcsanyi/interpreter.zip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rganizácia počítačových systémo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1979640"/>
            <a:ext cx="864072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Proces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nútorná pamä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onkajšie pamä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MS Gothic"/>
              </a:rPr>
              <a:t>Vstupné a výstupné zariad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00000" y="1785960"/>
            <a:ext cx="8280360" cy="46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20720" y="5396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Dvojitý Pipeli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20720" y="1900080"/>
            <a:ext cx="8280360" cy="22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uperskalárna architektú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1663560"/>
            <a:ext cx="8280360" cy="517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IM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825560"/>
            <a:ext cx="8280360" cy="447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20720" y="541440"/>
            <a:ext cx="8820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ultiprocesorové systé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60360" y="2340000"/>
            <a:ext cx="90010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nútorná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0720" y="1440000"/>
            <a:ext cx="90010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e to vlastne pole dĺžky 2</a:t>
            </a:r>
            <a:r>
              <a:rPr b="0" lang="en-GB" sz="1800" spc="-1" strike="noStrike" baseline="33000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ozostávajúce z S-bitových hodnô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20720" y="2160720"/>
            <a:ext cx="7380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 súčasnosti je väčšinou S=8, teda pamäť sa adresuje po bajto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0720" y="2879640"/>
            <a:ext cx="738036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-bitový procesor, dve možné definíc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ú dátovú zbernicu (vie preniesť N-bitov z/do pamäti v jednom cyk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Má N-bitové všeobecné registre a aritmeticko-logickú jednotku (vie vo svojom vnútri pracovať s N-bitovými hodnotam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Často je to to isté, ale nemusí to tak byť vž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4870440"/>
            <a:ext cx="738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účasné N-bitové procesory majú väčšinou N deliteľné 8, teda pracujú naraz s niekoľkými bajtm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oradie bajtov v pamä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04840" y="1440000"/>
            <a:ext cx="306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2-bitový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45200" y="1440000"/>
            <a:ext cx="37670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mäť adresovaná po bajto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1928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00360" y="222084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80000" y="222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80000" y="474192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80000" y="4021200"/>
            <a:ext cx="900360" cy="72072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000" y="366084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80000" y="330048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80000" y="294156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80000" y="2581200"/>
            <a:ext cx="90036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19640" y="4754520"/>
            <a:ext cx="36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59280" y="36752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59280" y="332748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59280" y="29811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46680" y="2625840"/>
            <a:ext cx="72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4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0000" y="3809880"/>
            <a:ext cx="4751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nes 4 bajty z adresy 1420 do regi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7964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928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00360" y="5281560"/>
            <a:ext cx="72072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"/>
          <p:cNvCxnSpPr>
            <a:stCxn id="116" idx="3"/>
            <a:endCxn id="105" idx="2"/>
          </p:cNvCxnSpPr>
          <p:nvPr/>
        </p:nvCxnSpPr>
        <p:spPr>
          <a:xfrm rot="10800000">
            <a:off x="3598200" y="2580480"/>
            <a:ext cx="2880360" cy="1267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6" name=""/>
          <p:cNvCxnSpPr>
            <a:stCxn id="117" idx="3"/>
            <a:endCxn id="106" idx="2"/>
          </p:cNvCxnSpPr>
          <p:nvPr/>
        </p:nvCxnSpPr>
        <p:spPr>
          <a:xfrm rot="10800000">
            <a:off x="2878920" y="2580480"/>
            <a:ext cx="3601080" cy="919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18" idx="3"/>
            <a:endCxn id="107" idx="2"/>
          </p:cNvCxnSpPr>
          <p:nvPr/>
        </p:nvCxnSpPr>
        <p:spPr>
          <a:xfrm rot="10800000">
            <a:off x="2158200" y="2580480"/>
            <a:ext cx="4320360" cy="573840"/>
          </a:xfrm>
          <a:prstGeom prst="curvedConnector5">
            <a:avLst>
              <a:gd name="adj1" fmla="val 50000"/>
              <a:gd name="adj2" fmla="val 49968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9" idx="3"/>
            <a:endCxn id="104" idx="2"/>
          </p:cNvCxnSpPr>
          <p:nvPr/>
        </p:nvCxnSpPr>
        <p:spPr>
          <a:xfrm rot="10800000">
            <a:off x="1439280" y="2580480"/>
            <a:ext cx="5028120" cy="218160"/>
          </a:xfrm>
          <a:prstGeom prst="curvedConnector5">
            <a:avLst>
              <a:gd name="adj1" fmla="val 50000"/>
              <a:gd name="adj2" fmla="val 49917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9" name=""/>
          <p:cNvCxnSpPr>
            <a:stCxn id="111" idx="3"/>
            <a:endCxn id="121" idx="2"/>
          </p:cNvCxnSpPr>
          <p:nvPr/>
        </p:nvCxnSpPr>
        <p:spPr>
          <a:xfrm flipV="1" rot="10800000">
            <a:off x="1439280" y="3839760"/>
            <a:ext cx="5941080" cy="180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0" name=""/>
          <p:cNvCxnSpPr>
            <a:stCxn id="112" idx="3"/>
            <a:endCxn id="124" idx="2"/>
          </p:cNvCxnSpPr>
          <p:nvPr/>
        </p:nvCxnSpPr>
        <p:spPr>
          <a:xfrm flipV="1" rot="10800000">
            <a:off x="2158200" y="3481200"/>
            <a:ext cx="5220360" cy="21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1" name=""/>
          <p:cNvCxnSpPr>
            <a:stCxn id="113" idx="3"/>
            <a:endCxn id="123" idx="2"/>
          </p:cNvCxnSpPr>
          <p:nvPr/>
        </p:nvCxnSpPr>
        <p:spPr>
          <a:xfrm flipV="1" rot="10800000">
            <a:off x="2878920" y="3120840"/>
            <a:ext cx="4501440" cy="2521440"/>
          </a:xfrm>
          <a:prstGeom prst="curvedConnector5">
            <a:avLst>
              <a:gd name="adj1" fmla="val 49996"/>
              <a:gd name="adj2" fmla="val 49992"/>
              <a:gd name="adj3" fmla="val 499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32" name=""/>
          <p:cNvCxnSpPr>
            <a:stCxn id="114" idx="3"/>
            <a:endCxn id="122" idx="2"/>
          </p:cNvCxnSpPr>
          <p:nvPr/>
        </p:nvCxnSpPr>
        <p:spPr>
          <a:xfrm flipV="1" rot="10800000">
            <a:off x="3598200" y="2760480"/>
            <a:ext cx="3780360" cy="28818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117440" y="4875120"/>
            <a:ext cx="25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ig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1812960"/>
            <a:ext cx="25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ttle e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che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0720" y="1440000"/>
            <a:ext cx="8820000" cy="13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Je rýchlejšia ale menšia než vnútorná pamä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Uchováva najčastejšie používané časti vnútornej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Logicky je medzi procesorom a vnútornou pamäťou, fyzické implementácie za môžu líši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60360" y="3060720"/>
            <a:ext cx="71438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onkajšia pamä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60360" y="1619280"/>
            <a:ext cx="7201080" cy="478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6659640"/>
            <a:ext cx="846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erarchia druhov pamä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9640" y="166068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n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yš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7360" y="5000760"/>
            <a:ext cx="1979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äčšia kapaci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rýchlosť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ižšia c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6838560" y="2696760"/>
            <a:ext cx="1622520" cy="21639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agnetické disk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70160" y="1616040"/>
            <a:ext cx="792000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20720" y="6084720"/>
            <a:ext cx="468000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čítač s jednou zbernic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oces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amä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iekoľko vstupno/výstupných zaria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héma počítača s jednou zberni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00000" y="1206360"/>
            <a:ext cx="7559640" cy="473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ptické disk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619280" y="1260360"/>
            <a:ext cx="7200720" cy="61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0360" y="1627200"/>
            <a:ext cx="9001080" cy="3592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60360" y="5400720"/>
            <a:ext cx="93600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adič zariaden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controller) je elektronika, ktora slúži na pripojenie zariadenia ku zberni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 môže byť veľmi jednoduchý (napr. klávesnica) alebo to môže byť celý samostatný počítač s vysokým výkonom (grafická kart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ramátor programuje povely pre radič a až ten riadi samotné zariade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diče obsahujú svoje registre a niekedy aj väčšie úseky pamä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360360"/>
            <a:ext cx="97203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ôsoby prenosu dát medzi radičom zariadenia a procesorom/pamäť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0360" y="1440000"/>
            <a:ext cx="9360000" cy="58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Špeciálne vstupno výstupné inštruk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Na prenos údajov medzi registrami procesora a registrami či pamäťou radičov sa použijú špeciálne inštrukcie strojového kódu. Nazývajú sa väčšinou IN a 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Mapovanie pamä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Časť adresného priestoru (väčšinou spojitý interval na konci adresného priestoru) pamäte sa “zoberie” vnútornej pamäti a pridelí sa registrom radičov a pamäti v radičo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Údaje sa potom prenášajú rovnakými inštruckiami ako z/do vnútornej pamä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MS Gothic"/>
              </a:rPr>
              <a:t>DMA - Direct Memory Access (Priamy prístup do pamä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Radič zariadenia môže komunikovať priamo s pamäťou. Operácia sa začne zápisom do registra radiča niektorou s predošlých metód. Potom sa však dáta prenášajú priamo medzi pamäťou a radičom bez účasti proceso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o skončení operácie vyšle radič signál žiadosti 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prerušeni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Gothic"/>
              </a:rPr>
              <a:t>, procesor reaguje vykonaním špecifického podprogra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656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Vstupné a výstupné zariadenia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00000" y="1403280"/>
            <a:ext cx="8280360" cy="5076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20720" y="6840360"/>
            <a:ext cx="8280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rázok ukazuje štruktúru počítača PC s viacerými zbernic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60360"/>
            <a:ext cx="918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20720" y="1216080"/>
            <a:ext cx="5400720" cy="5263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684036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átová cesta (data path) - Schéma toku dát v typickom proces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ykonávanie inštrukci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0360" y="1440000"/>
            <a:ext cx="936000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ďalšiu inštrukciu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meň register PC tak aby ukazoval na ďalšiu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Zisti druh inštruk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k inštrukcia potrebuje operand z pamäti, tak zisti jeho adre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ber operand z pamä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ykonaj inštrukc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kračuj znova krokom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2886120"/>
            <a:ext cx="5580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architektúry hypotetického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29280" y="3460680"/>
            <a:ext cx="1800360" cy="257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60360" y="3581280"/>
            <a:ext cx="5040360" cy="199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1260360"/>
            <a:ext cx="91807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ulátor je program, ktorý interpretuje inštrukcie strojového kódu konkrétneho (hypotetického alebo skutočného) procesora a simuluje prácu celého počítač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97000"/>
            <a:ext cx="9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áš jednoduchý emulátor slúži ako ukážka toho, čo sa deje vo vnútri proces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9280" y="539640"/>
            <a:ext cx="954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0720" y="1260360"/>
            <a:ext cx="34210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ávrh strojových inštrukc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38160" y="1639800"/>
          <a:ext cx="8421840" cy="286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639800"/>
                    <a:ext cx="84218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20720" y="4500720"/>
            <a:ext cx="342108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zorový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00000" y="4991040"/>
          <a:ext cx="4870440" cy="203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991040"/>
                    <a:ext cx="487044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Jednoduchý emulátor strojového kód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0360" y="1603440"/>
            <a:ext cx="810108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ogram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terpret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{$APPTYPE CONSOLE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v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m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array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[0..255]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Byte; // Pamä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 Byte; // Register adresy inštrukcie, ktorá sa má vykon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 Byte;  // Register inštrukcií - práve vykonávaná inštruk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 Byte;  // Akumulátor - register pre operandy a výsledky inštrukci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 Byte;// Register adresy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C:=0;    // Počiatočné nastav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ep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:=Pam[PC];          // vyber ďalšiu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      // zvýš počítad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I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  // zisti druh inštrukc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0: ;             // inštrukcia NOP - neurob ni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1:               // inštrukcia LDA - vlož do A hodnotu z adres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dr:= Pam[PC]; // zisti adresu operan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nc(PC);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:=Pam[Adr];   // vyber operand a tým aj vykonaj inštrukci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$02: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until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0360" y="1079640"/>
            <a:ext cx="95407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ompletný program nájdete na: 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user.edi.fmph.uniba.sk/tomcsanyi/interpreter.z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kroprogramovanie, CISC versus RI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0360" y="1260360"/>
            <a:ext cx="59403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Prvé počítače mali strojový kód implementovaný pomocou logických obvodov (hardvé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0360" y="2664000"/>
            <a:ext cx="5940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60. rokoch 20. storočia sa ujal spôsob implementácie, kde je hardware jednoduchší a strojový kód je implementovaný softwarovo pomocou mikroprogramu. Hardware vykonáva mikroinštrukcie a v jazyku mikroinštrukcií je naprogramovaný interpreter strojového kó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0360" y="4680000"/>
            <a:ext cx="918036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70. rokoch sa tento prístup rozšíril a umožnil vyvinúť procesory s rozsiahlym súborom inštrukcií (stovky druhov inštrukcií). Takéto procesory (a na nich založené počítače) označujeme skratkou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ISC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lex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V 80. rokoch 20. storočia sa objavila myšlienka, že návrat k menšiemu počtu inštrukcií priamo vykonávaných hardwarom umožńí urýchliť procesory. Nazývame ich RISC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duc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nstruct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et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omputer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MS Gothic"/>
              </a:rPr>
              <a:t>Súčasné procesory často kombinujú prístupy CISC a RISC - menší počet rýchlych jednoduchých hardwarovo vykonávaných inštrukcií a ďalšie zložitejšie inštrukcie vykonávané mikroprogram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80000" y="18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80000" y="270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920000" y="161928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80000" y="126036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strojového kó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80000" y="3240000"/>
            <a:ext cx="2880000" cy="360360"/>
          </a:xfrm>
          <a:prstGeom prst="flowChartProcess">
            <a:avLst/>
          </a:prstGeom>
          <a:solidFill>
            <a:srgbClr val="eb61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mikro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920000" y="3060720"/>
            <a:ext cx="1800" cy="17928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80000" y="3780000"/>
            <a:ext cx="2880000" cy="36036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Úroveň logických obvod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0000" y="3600360"/>
            <a:ext cx="1800" cy="179640"/>
          </a:xfrm>
          <a:prstGeom prst="line">
            <a:avLst/>
          </a:prstGeom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79280" y="539640"/>
            <a:ext cx="972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rýchľovanie počítač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868400"/>
            <a:ext cx="9180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vyšovať rýchlosť procesorov zvýšením frekvencie hodín je už (takmer) nemož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 je rýchlosť svet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 frekvencii 1GHz je čas jedného taktu 1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ktrický signál prejde vo vákuu za 1ns dráhu 30cm, v kremíku asi 20cm. Pri 10GHz je to len 2cm. To už môže byť menej, než je dĺžka spoja medzi časťami proces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0360" y="1362240"/>
            <a:ext cx="4213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. Zrýchlime hod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360" y="3419640"/>
            <a:ext cx="594036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. Paralelizmus vo vnútri proce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0360" y="5141880"/>
            <a:ext cx="72010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. Paralelizmus mimo proces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3930480"/>
            <a:ext cx="918036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Dvojitý pipel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uperska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0360" y="5730840"/>
            <a:ext cx="9180360" cy="11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SIMD, polia proceso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rocesorové systé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MS Gothic"/>
              </a:rPr>
              <a:t>Multipočítačové systémy, clustre počíta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