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397C-AEF0-49C2-9DCD-7D48176C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7198-CC06-4D44-A185-DAA95D3A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28B4-2824-4C03-B89F-13ED12A4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BB6-95D7-4782-B15A-938E06FF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0F5-E109-4EF8-93C9-781DE0AD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295-7C98-49BC-BD9F-8351954F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9ED4-47FD-47AD-9739-7F3303B8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FAB9-EF41-4FB3-B405-9F4B6B1F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C67-3FBF-4077-A369-3EB52F09F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C979-AFAA-4157-9F1C-E1D70EB6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4A09-DD6D-4E38-9065-F3BD449D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AF4-C67B-4BB1-A551-5711B507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ADDAB-A1F9-445F-8111-86F4826E50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ser.edi.fmph.uniba.sk/tomcsanyi/interpreter.zip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rganizácia počítačových systém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979640"/>
            <a:ext cx="86407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Proces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nútorná pamä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onkajšie pamä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stupné a výstupné zariad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1785960"/>
            <a:ext cx="8280360" cy="46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Dvojitý 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20720" y="1900080"/>
            <a:ext cx="8280360" cy="22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uperskalárna architektú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663560"/>
            <a:ext cx="828036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IM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825560"/>
            <a:ext cx="828036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ultiprocesorové systé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90010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nútorná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1440000"/>
            <a:ext cx="90010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e to vlastne pole dĺžky 2</a:t>
            </a:r>
            <a:r>
              <a:rPr b="0" lang="en-GB" sz="1800" spc="-1" strike="noStrike" baseline="33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zostávajúce z S-bitových hodnô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0720" y="2160720"/>
            <a:ext cx="7380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 súčasnosti je väčšinou S=8, teda pamäť sa adresuje po bajto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2879640"/>
            <a:ext cx="7380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-bitový procesor, dve možné definíc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ú dátovú zbernicu (vie preniesť N-bitov z/do pamäti v jednom cyk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é všeobecné registre a aritmeticko-logickú jednotku (vie vo svojom vnútri pracovať s N-bitovými hodnota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Často je to to isté, ale nemusí to tak byť vž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4870440"/>
            <a:ext cx="738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účasné N-bitové procesory majú väčšinou N deliteľné 8, teda pracujú naraz s niekoľkými bajt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oradie bajtov v pamä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144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2-bitový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45200" y="1440000"/>
            <a:ext cx="3767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mäť adresovaná po bajt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964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928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0036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80000" y="222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474192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4021200"/>
            <a:ext cx="900360" cy="720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366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80000" y="330048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80000" y="294156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80000" y="258120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9640" y="475452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59280" y="36752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59280" y="332748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59280" y="29811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46680" y="26258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3809880"/>
            <a:ext cx="4751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nes 4 bajty z adresy 1420 do regi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7964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928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0036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6" idx="3"/>
            <a:endCxn id="105" idx="2"/>
          </p:cNvCxnSpPr>
          <p:nvPr/>
        </p:nvCxnSpPr>
        <p:spPr>
          <a:xfrm rot="10800000">
            <a:off x="3598200" y="2580480"/>
            <a:ext cx="2880360" cy="1267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6" name=""/>
          <p:cNvCxnSpPr>
            <a:stCxn id="117" idx="3"/>
            <a:endCxn id="106" idx="2"/>
          </p:cNvCxnSpPr>
          <p:nvPr/>
        </p:nvCxnSpPr>
        <p:spPr>
          <a:xfrm rot="10800000">
            <a:off x="2878920" y="2580480"/>
            <a:ext cx="3601080" cy="919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7" name=""/>
          <p:cNvCxnSpPr>
            <a:stCxn id="118" idx="3"/>
            <a:endCxn id="107" idx="2"/>
          </p:cNvCxnSpPr>
          <p:nvPr/>
        </p:nvCxnSpPr>
        <p:spPr>
          <a:xfrm rot="10800000">
            <a:off x="2158200" y="2580480"/>
            <a:ext cx="4320360" cy="57384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8" name=""/>
          <p:cNvCxnSpPr>
            <a:stCxn id="119" idx="3"/>
            <a:endCxn id="104" idx="2"/>
          </p:cNvCxnSpPr>
          <p:nvPr/>
        </p:nvCxnSpPr>
        <p:spPr>
          <a:xfrm rot="10800000">
            <a:off x="1439280" y="2580480"/>
            <a:ext cx="5028120" cy="218160"/>
          </a:xfrm>
          <a:prstGeom prst="curvedConnector5">
            <a:avLst>
              <a:gd name="adj1" fmla="val 50000"/>
              <a:gd name="adj2" fmla="val 49917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9" name=""/>
          <p:cNvCxnSpPr>
            <a:stCxn id="111" idx="3"/>
            <a:endCxn id="121" idx="2"/>
          </p:cNvCxnSpPr>
          <p:nvPr/>
        </p:nvCxnSpPr>
        <p:spPr>
          <a:xfrm flipV="1" rot="10800000">
            <a:off x="1439280" y="3839760"/>
            <a:ext cx="5941080" cy="180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0" name=""/>
          <p:cNvCxnSpPr>
            <a:stCxn id="112" idx="3"/>
            <a:endCxn id="124" idx="2"/>
          </p:cNvCxnSpPr>
          <p:nvPr/>
        </p:nvCxnSpPr>
        <p:spPr>
          <a:xfrm flipV="1" rot="10800000">
            <a:off x="2158200" y="3481200"/>
            <a:ext cx="5220360" cy="21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1" name=""/>
          <p:cNvCxnSpPr>
            <a:stCxn id="113" idx="3"/>
            <a:endCxn id="123" idx="2"/>
          </p:cNvCxnSpPr>
          <p:nvPr/>
        </p:nvCxnSpPr>
        <p:spPr>
          <a:xfrm flipV="1" rot="10800000">
            <a:off x="2878920" y="3120840"/>
            <a:ext cx="4501440" cy="2521440"/>
          </a:xfrm>
          <a:prstGeom prst="curvedConnector5">
            <a:avLst>
              <a:gd name="adj1" fmla="val 49996"/>
              <a:gd name="adj2" fmla="val 49992"/>
              <a:gd name="adj3" fmla="val 4999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2" name=""/>
          <p:cNvCxnSpPr>
            <a:stCxn id="114" idx="3"/>
            <a:endCxn id="122" idx="2"/>
          </p:cNvCxnSpPr>
          <p:nvPr/>
        </p:nvCxnSpPr>
        <p:spPr>
          <a:xfrm flipV="1" rot="10800000">
            <a:off x="3598200" y="2760480"/>
            <a:ext cx="3780360" cy="2881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117440" y="4875120"/>
            <a:ext cx="25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4840" y="1812960"/>
            <a:ext cx="25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che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0720" y="1440000"/>
            <a:ext cx="882000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Je rýchlejšia ale menšia než vnútorná pamä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Uchováva najčastejšie používané časti vnútornej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Logicky je medzi procesorom a vnútornou pamäťou, fyzické implementácie za môžu líši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60360" y="3060720"/>
            <a:ext cx="714384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onkajšia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60360" y="1619280"/>
            <a:ext cx="7201080" cy="478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6659640"/>
            <a:ext cx="846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erarchia druhov pamä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9640" y="166068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7360" y="500076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äč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838560" y="2696760"/>
            <a:ext cx="1622520" cy="21639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gnetické di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70160" y="1616040"/>
            <a:ext cx="7920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720" y="6084720"/>
            <a:ext cx="46800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čítač s jednou zbernic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oce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amä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iekoľko vstupno/výstupných zaria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héma počítača s jednou zbernic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1206360"/>
            <a:ext cx="75596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tické dis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19280" y="1260360"/>
            <a:ext cx="7200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0360" y="1627200"/>
            <a:ext cx="9001080" cy="3592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60360" y="5400720"/>
            <a:ext cx="93600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dič zariadeni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ntroller) je elektronika, ktora slúži na pripojenie zariadenia ku zber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 môže byť veľmi jednoduchý (napr. klávesnica) alebo to môže byť celý samostatný počítač s vysokým výkonom (grafická kar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átor programuje povely pre radič a až ten riadi samotné zariade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e obsahujú svoje registre a niekedy aj väčšie úseky pamä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360360"/>
            <a:ext cx="9720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ôsoby prenosu dát medzi radičom zariadenia a procesorom/pamäť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0360" y="1440000"/>
            <a:ext cx="9360000" cy="58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Špeciálne vstupno výstupné inštruk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a prenos údajov medzi registrami procesora a registrami či pamäťou radičov sa použijú špeciálne inštrukcie strojového kódu. Nazývajú sa väčšinou IN a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Mapovanie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Časť adresného priestoru (väčšinou spojitý interval na konci adresného priestoru) pamäte sa “zoberie” vnútornej pamäti a pridelí sa registrom radičov a pamäti v radičo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Údaje sa potom prenášajú rovnakými inštruckiami ako z/do vnútornej pamä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DMA - Direct Memory Access (Priamy prístup do pamä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Radič zariadenia môže komunikovať priamo s pamäťou. Operácia sa začne zápisom do registra radiča niektorou s predošlých metód. Potom sa však dáta prenášajú priamo medzi pamäťou a radičom bez účasti proces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o skončení operácie vyšle radič signál žiadosti 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rerušeni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, procesor reaguje vykonaním špecifického podprogra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00000" y="1403280"/>
            <a:ext cx="8280360" cy="507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20720" y="6840360"/>
            <a:ext cx="828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ázok ukazuje štruktúru počítača PC s viacerými zbernic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360360"/>
            <a:ext cx="918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20720" y="1216080"/>
            <a:ext cx="5400720" cy="5263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684036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átová cesta (data path) - Schéma toku dát v typickom proces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ykonávanie inštruk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360" y="1440000"/>
            <a:ext cx="936000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ďalšiu inštrukciu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eň register PC tak aby ukazoval na ďalšiu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isti druh inštru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k inštrukcia potrebuje operand z pamäti, tak zisti jeho ad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operand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konaj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kračuj znova krokom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2886120"/>
            <a:ext cx="558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architektúry hypotetického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29280" y="3460680"/>
            <a:ext cx="1800360" cy="257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60360" y="3581280"/>
            <a:ext cx="5040360" cy="199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1260360"/>
            <a:ext cx="918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ulátor je program, ktorý interpretuje inštrukcie strojového kódu konkrétneho (hypotetického alebo skutočného) procesora a simuluje prácu celého počítač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9700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áš jednoduchý emulátor slúži ako ukážka toho, čo sa deje vo vnútri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1260360"/>
            <a:ext cx="34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strojových inštrukc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38160" y="1639800"/>
          <a:ext cx="8421840" cy="28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639800"/>
                    <a:ext cx="842184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720720" y="4500720"/>
            <a:ext cx="34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zorový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0000" y="4991040"/>
          <a:ext cx="4870440" cy="203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991040"/>
                    <a:ext cx="487044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0360" y="1603440"/>
            <a:ext cx="810108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ogram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erpre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$APPTYPE CONSOLE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m: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[0..255]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yte; // Pamä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 Byte; // Register adresy inštrukcie, ktorá sa má vykon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 Byte;  // Register inštrukcií - práve vykonávaná inštruk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 Byte;  // Akumulátor - register pre operandy a výsledky inštrukci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 Byte;// Register adresy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=0;    // Počiatočné nastav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p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=Pam[PC];          // vyber ďalšiu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      // zvýš počítad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// zisti druh inštruk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0: ;             // inštrukcia NOP - neurob ni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1:               // inštrukcia LDA - vlož do A hodnotu z adre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= Pam[PC]; // zisti adresu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Pam[Adr];   // vyber operand a tým aj vykonaj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2: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ntil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360" y="1079640"/>
            <a:ext cx="954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mpletný program nájdete na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user.edi.fmph.uniba.sk/tomcsanyi/interpreter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kroprogramovanie, CISC versus RI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360" y="1260360"/>
            <a:ext cx="594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vé počítače mali strojový kód implementovaný pomocou logických obvodov (hardvé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2664000"/>
            <a:ext cx="5940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60. rokoch 20. storočia sa ujal spôsob implementácie, kde je hardware jednoduchší a strojový kód je implementovaný softwarovo pomocou mikroprogramu. Hardware vykonáva mikroinštrukcie a v jazyku mikroinštrukcií je naprogramovaný interpreter strojového kó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0360" y="4680000"/>
            <a:ext cx="91803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70. rokoch sa tento prístup rozšíril a umožnil vyvinúť procesory s rozsiahlym súborom inštrukcií (stovky druhov inštrukcií). Takéto procesory (a na nich založené počítače) označujeme skratkou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ISC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lex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80. rokoch 20. storočia sa objavila myšlienka, že návrat k menšiemu počtu inštrukcií priamo vykonávaných hardwarom umožńí urýchliť procesory. Nazývame ich RISC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duc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účasné procesory často kombinujú prístupy CISC a RISC - menší počet rýchlych jednoduchých hardwarovo vykonávaných inštrukcií a ďalšie zložitejšie inštrukcie vykonávané mikroprogram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0000" y="18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27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0000" y="161928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126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3240000"/>
            <a:ext cx="2880000" cy="360360"/>
          </a:xfrm>
          <a:prstGeom prst="flowChartProcess">
            <a:avLst/>
          </a:prstGeom>
          <a:solidFill>
            <a:srgbClr val="eb61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mikroprogr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0000" y="306072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0000" y="378000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0000" y="3600360"/>
            <a:ext cx="1800" cy="1796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rýchľovanie počítač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868400"/>
            <a:ext cx="918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vyšovať rýchlosť procesorov zvýšením frekvencie hodín je už (takmer) nemo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it je rýchlosť svet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 frekvencii 1GHz je čas jedného taktu 1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ktrický signál prejde vo vákuu za 1ns dráhu 30cm, v kremíku asi 20cm. Pri 10GHz je to len 2cm. To už môže byť menej, než je dĺžka spoja medzi časťami proces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0360" y="1362240"/>
            <a:ext cx="4213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. Zrýchlime h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0360" y="3419640"/>
            <a:ext cx="5940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. Paralelizmus vo vnútri proce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0360" y="5141880"/>
            <a:ext cx="7201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. Paralelizmus mimo proces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3930480"/>
            <a:ext cx="91803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vojitý 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uperskalárna archite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0360" y="5730840"/>
            <a:ext cx="9180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IMD, polia proceso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rocesorové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očítačové systémy, clustre počíta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